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look at all four and ask yourself, “Self, what are we measuring here?”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here is that with the first 3 questions your purpose is probably to assess their acquisition of the fact target: “Student knows that a barometer is a device that can be used to measure air pressure.”      But the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estion is one you might employ if you are assessing understanding of the lapse rate of atmospheric pressu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function of a barometer.  It is more of a short essay than a real “selected response / short answer.”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nother one where you need to know what you are trying to test.  They you need to employ assessment methods that are suited to give students a chance to give you appropriate evidence of achievement without so many confounding possibilities for interpretation of the ques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f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"/>
          <p:cNvSpPr/>
          <p:nvPr/>
        </p:nvSpPr>
        <p:spPr>
          <a:xfrm>
            <a:off x="1143000" y="380880"/>
            <a:ext cx="7086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thoughts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ing Quality Assess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9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0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Oval 41"/>
          <p:cNvSpPr/>
          <p:nvPr/>
        </p:nvSpPr>
        <p:spPr>
          <a:xfrm>
            <a:off x="3200400" y="3220920"/>
            <a:ext cx="2743200" cy="11224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42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 the purpos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43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44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5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Line 46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47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Oval 48"/>
          <p:cNvSpPr/>
          <p:nvPr/>
        </p:nvSpPr>
        <p:spPr>
          <a:xfrm>
            <a:off x="3276720" y="4952880"/>
            <a:ext cx="2743200" cy="121932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9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50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51"/>
          <p:cNvSpPr/>
          <p:nvPr/>
        </p:nvSpPr>
        <p:spPr>
          <a:xfrm flipH="1" flipV="1">
            <a:off x="2537280" y="3074040"/>
            <a:ext cx="861480" cy="22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ther words: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133720"/>
          <a:ext cx="8076960" cy="4378320"/>
        </p:xfrm>
        <a:graphic>
          <a:graphicData uri="http://schemas.openxmlformats.org/drawingml/2006/table">
            <a:tbl>
              <a:tblPr/>
              <a:tblGrid>
                <a:gridCol w="1616040"/>
                <a:gridCol w="1614240"/>
                <a:gridCol w="1616400"/>
                <a:gridCol w="1614240"/>
                <a:gridCol w="1616040"/>
              </a:tblGrid>
              <a:tr h="1133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Selected Respon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Ess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Performance 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Personal </a:t>
                      </a:r>
                      <a:r>
                        <a:rPr b="0" lang="en-US" sz="16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F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Conc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Sk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2f7"/>
                          </a:solidFill>
                          <a:latin typeface="Times New Roman"/>
                        </a:rPr>
                        <a:t>Dis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 rot="16200000">
            <a:off x="8010720" y="548532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ggins – page 8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1371600" y="3049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Meth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stry of classroom assessment emerges when teachers orchestrate a careful alignment among user information needs, achievement targets, and assessment method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. p.76)</a:t>
            </a:r>
            <a:endParaRPr b="0" lang="en-US" sz="1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276720" y="762120"/>
            <a:ext cx="1895400" cy="368280"/>
          </a:xfrm>
          <a:prstGeom prst="rightArrow">
            <a:avLst>
              <a:gd name="adj1" fmla="val 50000"/>
              <a:gd name="adj2" fmla="val 257355"/>
            </a:avLst>
          </a:prstGeom>
          <a:gradFill rotWithShape="0">
            <a:gsLst>
              <a:gs pos="0">
                <a:srgbClr val="003731"/>
              </a:gs>
              <a:gs pos="50000">
                <a:srgbClr val="00b7a5"/>
              </a:gs>
              <a:gs pos="100000">
                <a:srgbClr val="00373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905120" y="5951520"/>
            <a:ext cx="5105160" cy="906480"/>
          </a:xfrm>
          <a:prstGeom prst="rect">
            <a:avLst/>
          </a:prstGeom>
          <a:solidFill>
            <a:srgbClr val="ee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422440" y="6172200"/>
            <a:ext cx="3464280" cy="454680"/>
          </a:xfrm>
          <a:prstGeom prst="rect">
            <a:avLst/>
          </a:prstGeom>
          <a:solidFill>
            <a:srgbClr val="cccccc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Tekton Plus Regular"/>
              </a:rPr>
              <a:t>form follows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>
            <a:off x="3240000" y="3809880"/>
            <a:ext cx="216072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Response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ay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Assessment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1430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fore …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1"/>
          <a:stretch/>
        </p:blipFill>
        <p:spPr>
          <a:xfrm rot="19301400">
            <a:off x="555480" y="3717720"/>
            <a:ext cx="457200" cy="146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2"/>
          <a:stretch/>
        </p:blipFill>
        <p:spPr>
          <a:xfrm>
            <a:off x="2133720" y="5029200"/>
            <a:ext cx="1460520" cy="6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3"/>
          <a:stretch/>
        </p:blipFill>
        <p:spPr>
          <a:xfrm rot="3133200">
            <a:off x="4455720" y="5072040"/>
            <a:ext cx="825480" cy="146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sawzall_large"/>
          <p:cNvPicPr/>
          <p:nvPr/>
        </p:nvPicPr>
        <p:blipFill>
          <a:blip r:embed="rId4"/>
          <a:stretch/>
        </p:blipFill>
        <p:spPr>
          <a:xfrm>
            <a:off x="-11160" y="5354640"/>
            <a:ext cx="1473120" cy="147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5">
            <a:grayscl/>
          </a:blip>
          <a:stretch/>
        </p:blipFill>
        <p:spPr>
          <a:xfrm rot="16611000">
            <a:off x="6113160" y="4438080"/>
            <a:ext cx="1685880" cy="16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6">
            <a:grayscl/>
          </a:blip>
          <a:srcRect l="0" t="24546" r="7274" b="20909"/>
          <a:stretch/>
        </p:blipFill>
        <p:spPr>
          <a:xfrm>
            <a:off x="5867280" y="2819520"/>
            <a:ext cx="22021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"/>
          <p:cNvPicPr/>
          <p:nvPr/>
        </p:nvPicPr>
        <p:blipFill>
          <a:blip r:embed="rId7"/>
          <a:stretch/>
        </p:blipFill>
        <p:spPr>
          <a:xfrm>
            <a:off x="783576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 or F:  A barometer is a device to measure air pressure.  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) A device to measure air pressure is called a  ___________  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Which of the following is a device to measure air pressure?  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anemometer __ psychrometer   __ barometer    __ thermometer  </a:t>
            </a:r>
            <a:endParaRPr b="0" lang="en-US" sz="1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) Describe how it is possible to measure the height of a tall building using a barometer.    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588680" y="243000"/>
            <a:ext cx="56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Selected Response / Short Answer …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143000" y="7621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arome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5360" y="22860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2f7"/>
                </a:solidFill>
                <a:latin typeface="Times New Roman"/>
              </a:rPr>
              <a:t>1.) State the equation for pressure at a given height, z. __________________________________</a:t>
            </a:r>
            <a:endParaRPr b="0" lang="en-US" sz="24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2f7"/>
                </a:solidFill>
                <a:latin typeface="Times New Roman"/>
              </a:rPr>
              <a:t>2.) Show how it is possible to measure the height of a tall building with a barometer.  </a:t>
            </a:r>
            <a:endParaRPr b="0" lang="en-US" sz="24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952560" y="380880"/>
            <a:ext cx="72388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pse rate of atmospheric pressur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ct vs. con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210360" y="4648320"/>
            <a:ext cx="22478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AutoShape 2"/>
          <p:cNvGrpSpPr/>
          <p:nvPr/>
        </p:nvGrpSpPr>
        <p:grpSpPr>
          <a:xfrm>
            <a:off x="4748040" y="3492360"/>
            <a:ext cx="2372040" cy="1865520"/>
            <a:chOff x="4748040" y="3492360"/>
            <a:chExt cx="2372040" cy="1865520"/>
          </a:xfrm>
        </p:grpSpPr>
        <p:pic>
          <p:nvPicPr>
            <p:cNvPr id="77" name="AutoShape 2" descr=""/>
            <p:cNvPicPr/>
            <p:nvPr/>
          </p:nvPicPr>
          <p:blipFill>
            <a:blip r:embed="rId1"/>
            <a:stretch/>
          </p:blipFill>
          <p:spPr>
            <a:xfrm>
              <a:off x="4748040" y="3492360"/>
              <a:ext cx="237204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05440" y="3557520"/>
              <a:ext cx="1952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Desdemona"/>
                  <a:ea typeface="Desdemona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Lucida Sans"/>
                  <a:ea typeface="Lucida Sans"/>
                </a:rPr>
                <a:t>Ready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Rectangle 8"/>
          <p:cNvSpPr/>
          <p:nvPr/>
        </p:nvSpPr>
        <p:spPr>
          <a:xfrm>
            <a:off x="1143000" y="6858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another test …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6" descr="020.JPG"/>
          <p:cNvPicPr/>
          <p:nvPr/>
        </p:nvPicPr>
        <p:blipFill>
          <a:blip r:embed="rId2"/>
          <a:stretch/>
        </p:blipFill>
        <p:spPr>
          <a:xfrm>
            <a:off x="3352680" y="5256360"/>
            <a:ext cx="2256120" cy="1601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588680" y="243000"/>
            <a:ext cx="56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Selected Response / Short Answer …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990720" y="1752480"/>
            <a:ext cx="5384520" cy="3327480"/>
          </a:xfrm>
          <a:prstGeom prst="rect">
            <a:avLst/>
          </a:prstGeom>
          <a:gradFill rotWithShape="0">
            <a:gsLst>
              <a:gs pos="0">
                <a:srgbClr val="8ffff4"/>
              </a:gs>
              <a:gs pos="100000">
                <a:srgbClr val="00d2bb"/>
              </a:gs>
            </a:gsLst>
            <a:lin ang="5400000"/>
          </a:gradFill>
          <a:ln w="9360">
            <a:solidFill>
              <a:srgbClr val="00b7a5"/>
            </a:solidFill>
            <a:miter/>
          </a:ln>
          <a:effectLst>
            <a:outerShdw dist="73739" dir="215177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81080" y="2666880"/>
            <a:ext cx="2652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048680" y="2195640"/>
            <a:ext cx="51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does not belo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143000" y="6858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another test …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88680" y="243000"/>
            <a:ext cx="56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Selected Response / Short Answer …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020.JPG"/>
          <p:cNvPicPr/>
          <p:nvPr/>
        </p:nvPicPr>
        <p:blipFill>
          <a:blip r:embed="rId1"/>
          <a:stretch/>
        </p:blipFill>
        <p:spPr>
          <a:xfrm>
            <a:off x="3352680" y="5256360"/>
            <a:ext cx="225612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2f7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rget =&gt; Evidence =&gt; Assessment</a:t>
            </a:r>
            <a:endParaRPr b="0" lang="en-US" sz="36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2640" y="3580920"/>
            <a:ext cx="77914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ct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cept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ispositions</a:t>
            </a:r>
            <a:endParaRPr b="0" lang="en-US" sz="32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512000" y="2133720"/>
            <a:ext cx="64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 when students are achiev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kinds of targets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62000" y="1905120"/>
            <a:ext cx="448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Response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y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Assessment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25668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ct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cept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kill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sposition</a:t>
            </a:r>
            <a:endParaRPr b="0" lang="en-US" sz="2800" spc="-1" strike="noStrike">
              <a:solidFill>
                <a:srgbClr val="0002f7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066680" y="8380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here’s a matching test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6:06:38Z</dcterms:created>
  <dc:creator>Mark Roddy</dc:creator>
  <dc:description/>
  <cp:keywords/>
  <dc:language>en-US</dc:language>
  <cp:lastModifiedBy>Microsoft Office User</cp:lastModifiedBy>
  <cp:lastPrinted>2006-09-29T20:33:13Z</cp:lastPrinted>
  <dcterms:modified xsi:type="dcterms:W3CDTF">2016-10-11T18:02:37Z</dcterms:modified>
  <cp:revision>62</cp:revision>
  <dc:subject/>
  <dc:title>Some thoughts on Chapter 4: Understanding Assessment Alternatives</dc:title>
</cp:coreProperties>
</file>